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76B6-3BDD-4006-892F-CDAA9F35A2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ajeev Alur, David L. Di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22A-C709-4A8C-B0B2-EDC27950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641-B1FC-408A-835D-E9FA2DD8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7D0-FA8B-42F2-A7F8-66BA0A1E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D4E-C589-41D9-A182-2DD4FA29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3B4C-0CD2-44ED-8295-FB7B8455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0655-D916-4D05-A4E4-C25C276A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5210-6484-4EA6-BDF7-2A457841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5C64-FF8C-44B0-A43D-672FCC80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3B9C-2C12-4E41-95E9-4473FB74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80BB-D825-478D-B8D2-2CFFC757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339E-5126-48E0-B86A-452CF396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EE9-E921-4824-B258-745BD9F3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E824-16EC-4676-A3A1-E56DEDFB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5939-A710-4F21-90A9-4CB56B2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187A-ADC6-4F36-B819-49F83624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2D51-BB36-4752-B687-78F0C788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CC19-9628-4287-9867-8C5E5081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FE8-7B45-4B0D-87EC-0B187418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A19-9CDD-43E7-A921-37EAB38F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F17-1836-4F45-B77A-F10E2A6B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8D7-EF94-4F23-91E7-F3F3D162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A6C-1D94-4055-875C-E3C44BCB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1C7-A288-4999-B685-4FD3687B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C78-5DB2-417A-93AA-9FD72267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E428-9AAE-494D-99AD-9D3B0B6EBAAE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685E-1D6D-4FB7-853B-B2C60FA3F062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18129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162920" y="1828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2826360" y="6072480"/>
            <a:ext cx="42840" cy="727200"/>
          </a:xfrm>
          <a:custGeom>
            <a:avLst/>
            <a:gdLst>
              <a:gd name="textAreaLeft" fmla="*/ 12600 w 42840"/>
              <a:gd name="textAreaRight" fmla="*/ 43200 w 42840"/>
              <a:gd name="textAreaTop" fmla="*/ 30240 h 727200"/>
              <a:gd name="textAreaBottom" fmla="*/ 696960 h 7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55840" y="64389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62920" y="28954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2826360" y="6072480"/>
            <a:ext cx="42840" cy="727200"/>
          </a:xfrm>
          <a:custGeom>
            <a:avLst/>
            <a:gdLst>
              <a:gd name="textAreaLeft" fmla="*/ 12600 w 42840"/>
              <a:gd name="textAreaRight" fmla="*/ 43200 w 42840"/>
              <a:gd name="textAreaTop" fmla="*/ 30240 h 727200"/>
              <a:gd name="textAreaBottom" fmla="*/ 696960 h 7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55840" y="64389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3204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142040" y="29052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2854080" y="5168520"/>
            <a:ext cx="42840" cy="2604960"/>
          </a:xfrm>
          <a:custGeom>
            <a:avLst/>
            <a:gdLst>
              <a:gd name="textAreaLeft" fmla="*/ 12600 w 42840"/>
              <a:gd name="textAreaRight" fmla="*/ 43200 w 42840"/>
              <a:gd name="textAreaTop" fmla="*/ 108360 h 2604960"/>
              <a:gd name="textAreaBottom" fmla="*/ 2496600 h 26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95600" y="64612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28880" y="50943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2040" y="29052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3450960" y="4549320"/>
            <a:ext cx="65160" cy="3821040"/>
          </a:xfrm>
          <a:custGeom>
            <a:avLst/>
            <a:gdLst>
              <a:gd name="textAreaLeft" fmla="*/ 19080 w 65160"/>
              <a:gd name="textAreaRight" fmla="*/ 65160 w 65160"/>
              <a:gd name="textAreaTop" fmla="*/ 159120 h 3821040"/>
              <a:gd name="textAreaBottom" fmla="*/ 3661920 h 38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9160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16200000">
            <a:off x="5781600" y="621612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416920" y="646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3450960" y="4549320"/>
            <a:ext cx="65160" cy="3821040"/>
          </a:xfrm>
          <a:custGeom>
            <a:avLst/>
            <a:gdLst>
              <a:gd name="textAreaLeft" fmla="*/ 19080 w 65160"/>
              <a:gd name="textAreaRight" fmla="*/ 65160 w 65160"/>
              <a:gd name="textAreaTop" fmla="*/ 159120 h 3821040"/>
              <a:gd name="textAreaBottom" fmla="*/ 3661920 h 38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99160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40040" y="3986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72080" y="28623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5781600" y="621612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16920" y="646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6153120" y="5936760"/>
            <a:ext cx="0" cy="3812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3640" y="5570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6211800" y="6286680"/>
            <a:ext cx="898560" cy="2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3490920" y="4587480"/>
            <a:ext cx="42840" cy="3767400"/>
          </a:xfrm>
          <a:custGeom>
            <a:avLst/>
            <a:gdLst>
              <a:gd name="textAreaLeft" fmla="*/ 12600 w 42840"/>
              <a:gd name="textAreaRight" fmla="*/ 43200 w 42840"/>
              <a:gd name="textAreaTop" fmla="*/ 156960 h 3767400"/>
              <a:gd name="textAreaBottom" fmla="*/ 3610440 h 376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04704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740040" y="3986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83240" y="1808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16200000">
            <a:off x="5773680" y="615420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153120" y="5936760"/>
            <a:ext cx="0" cy="3812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813640" y="5570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364720" y="64213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211800" y="6286680"/>
            <a:ext cx="898560" cy="2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1280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789240" y="5560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6629400" y="5994360"/>
            <a:ext cx="85680" cy="927360"/>
          </a:xfrm>
          <a:custGeom>
            <a:avLst/>
            <a:gdLst>
              <a:gd name="textAreaLeft" fmla="*/ 25200 w 85680"/>
              <a:gd name="textAreaRight" fmla="*/ 86040 w 85680"/>
              <a:gd name="textAreaTop" fmla="*/ 38520 h 927360"/>
              <a:gd name="textAreaBottom" fmla="*/ 888840 h 9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168960" y="640548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gt;= 1 &amp; y&lt;=2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7192800" y="6276600"/>
            <a:ext cx="898560" cy="32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Definition of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2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 timed automata is a tuple &lt;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Arial"/>
              </a:rPr>
              <a:t>∑, S, S</a:t>
            </a:r>
            <a:r>
              <a:rPr b="0" lang="zh-CN" sz="24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Arial"/>
              </a:rPr>
              <a:t>, C, E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&gt;, whe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∑ 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is a finite set of alphabe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 is a finite set of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</a:t>
            </a:r>
            <a:r>
              <a:rPr b="0" lang="zh-CN" sz="20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     S is the set of start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C is a finite set of clock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E                                    is a set of transitions. An edge &lt;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, s’, a,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λ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,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&gt; represents a transition from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to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’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on input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a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under the clock constraint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.  The clocks in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λ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will be reset in the transitio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133720" y="42670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2209680" y="35053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14600" y="4267080"/>
                <a:ext cx="2057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Σ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ing Properties of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Emptiness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(reachability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Decidable, P-Space comple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Universality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(neg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Undecid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But 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deterministic TA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is 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closed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under all the boolean opera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Given a system as a collection of TA and a property as a deterministic TA, checking the system satisfies the specification can be done in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 P-Spa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the train-gate syst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whenever the train is inside the gate, the gate should be clo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05120" y="4876920"/>
            <a:ext cx="83808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781680" y="4876920"/>
            <a:ext cx="83844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419720" y="4876920"/>
            <a:ext cx="83808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23880" y="5181480"/>
            <a:ext cx="3812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743200" y="472428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192"/>
                </a:moveTo>
                <a:cubicBezTo>
                  <a:pt x="176" y="96"/>
                  <a:pt x="352" y="0"/>
                  <a:pt x="528" y="0"/>
                </a:cubicBezTo>
                <a:cubicBezTo>
                  <a:pt x="704" y="0"/>
                  <a:pt x="1040" y="120"/>
                  <a:pt x="1056" y="1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523880" cy="3049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84" y="96"/>
                  <a:pt x="368" y="0"/>
                  <a:pt x="528" y="0"/>
                </a:cubicBezTo>
                <a:cubicBezTo>
                  <a:pt x="688" y="0"/>
                  <a:pt x="824" y="96"/>
                  <a:pt x="960" y="1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743200" y="525780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0"/>
                </a:moveTo>
                <a:cubicBezTo>
                  <a:pt x="176" y="96"/>
                  <a:pt x="352" y="192"/>
                  <a:pt x="528" y="192"/>
                </a:cubicBezTo>
                <a:cubicBezTo>
                  <a:pt x="704" y="192"/>
                  <a:pt x="880" y="96"/>
                  <a:pt x="1056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57800" y="5257800"/>
            <a:ext cx="152388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0"/>
                </a:moveTo>
                <a:cubicBezTo>
                  <a:pt x="212" y="72"/>
                  <a:pt x="424" y="144"/>
                  <a:pt x="576" y="144"/>
                </a:cubicBezTo>
                <a:cubicBezTo>
                  <a:pt x="728" y="144"/>
                  <a:pt x="820" y="72"/>
                  <a:pt x="912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828800" y="434340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240" y="336"/>
                </a:moveTo>
                <a:cubicBezTo>
                  <a:pt x="120" y="216"/>
                  <a:pt x="0" y="96"/>
                  <a:pt x="48" y="48"/>
                </a:cubicBezTo>
                <a:cubicBezTo>
                  <a:pt x="96" y="0"/>
                  <a:pt x="480" y="0"/>
                  <a:pt x="528" y="48"/>
                </a:cubicBezTo>
                <a:cubicBezTo>
                  <a:pt x="576" y="96"/>
                  <a:pt x="456" y="216"/>
                  <a:pt x="336" y="336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330800" y="4267080"/>
            <a:ext cx="888840" cy="609840"/>
          </a:xfrm>
          <a:custGeom>
            <a:avLst/>
            <a:gdLst/>
            <a:ahLst/>
            <a:rect l="l" t="t" r="r" b="b"/>
            <a:pathLst>
              <a:path w="560" h="384">
                <a:moveTo>
                  <a:pt x="200" y="384"/>
                </a:moveTo>
                <a:cubicBezTo>
                  <a:pt x="100" y="296"/>
                  <a:pt x="0" y="208"/>
                  <a:pt x="8" y="144"/>
                </a:cubicBezTo>
                <a:cubicBezTo>
                  <a:pt x="16" y="80"/>
                  <a:pt x="160" y="0"/>
                  <a:pt x="248" y="0"/>
                </a:cubicBezTo>
                <a:cubicBezTo>
                  <a:pt x="336" y="0"/>
                  <a:pt x="512" y="80"/>
                  <a:pt x="536" y="144"/>
                </a:cubicBezTo>
                <a:cubicBezTo>
                  <a:pt x="560" y="208"/>
                  <a:pt x="476" y="296"/>
                  <a:pt x="392" y="384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671840" y="3998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enter, ~dow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98000" y="437976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wn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034080" y="54468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p, ~en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25760" y="39225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enter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624640" y="4379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nter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691240" y="54244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it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timed system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s a system whose correctness depends o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ming constraint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ormal analysi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of timed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cribe systems with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ecify properties about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conform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Realtime liveness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: the gate is never closed at a stretch for more than 10 minu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8800" y="4419720"/>
            <a:ext cx="1295280" cy="761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86400" y="4419720"/>
            <a:ext cx="1295280" cy="761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971800" y="4178160"/>
            <a:ext cx="2590920" cy="393840"/>
          </a:xfrm>
          <a:custGeom>
            <a:avLst/>
            <a:gdLst/>
            <a:ahLst/>
            <a:rect l="l" t="t" r="r" b="b"/>
            <a:pathLst>
              <a:path w="1632" h="248">
                <a:moveTo>
                  <a:pt x="0" y="200"/>
                </a:moveTo>
                <a:cubicBezTo>
                  <a:pt x="296" y="100"/>
                  <a:pt x="592" y="0"/>
                  <a:pt x="864" y="8"/>
                </a:cubicBezTo>
                <a:cubicBezTo>
                  <a:pt x="1136" y="16"/>
                  <a:pt x="1384" y="132"/>
                  <a:pt x="1632" y="248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95480" y="5029200"/>
            <a:ext cx="2667240" cy="393840"/>
          </a:xfrm>
          <a:custGeom>
            <a:avLst/>
            <a:gdLst/>
            <a:ahLst/>
            <a:rect l="l" t="t" r="r" b="b"/>
            <a:pathLst>
              <a:path w="1680" h="248">
                <a:moveTo>
                  <a:pt x="0" y="48"/>
                </a:moveTo>
                <a:cubicBezTo>
                  <a:pt x="316" y="148"/>
                  <a:pt x="632" y="248"/>
                  <a:pt x="912" y="240"/>
                </a:cubicBezTo>
                <a:cubicBezTo>
                  <a:pt x="1192" y="232"/>
                  <a:pt x="1436" y="116"/>
                  <a:pt x="1680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66960" y="3733920"/>
            <a:ext cx="1054080" cy="685800"/>
          </a:xfrm>
          <a:custGeom>
            <a:avLst/>
            <a:gdLst/>
            <a:ahLst/>
            <a:rect l="l" t="t" r="r" b="b"/>
            <a:pathLst>
              <a:path w="664" h="432">
                <a:moveTo>
                  <a:pt x="216" y="432"/>
                </a:moveTo>
                <a:cubicBezTo>
                  <a:pt x="108" y="324"/>
                  <a:pt x="0" y="216"/>
                  <a:pt x="24" y="144"/>
                </a:cubicBezTo>
                <a:cubicBezTo>
                  <a:pt x="48" y="72"/>
                  <a:pt x="256" y="0"/>
                  <a:pt x="360" y="0"/>
                </a:cubicBezTo>
                <a:cubicBezTo>
                  <a:pt x="464" y="0"/>
                  <a:pt x="632" y="72"/>
                  <a:pt x="648" y="144"/>
                </a:cubicBezTo>
                <a:cubicBezTo>
                  <a:pt x="664" y="216"/>
                  <a:pt x="560" y="324"/>
                  <a:pt x="456" y="43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62720" y="3797280"/>
            <a:ext cx="876240" cy="622440"/>
          </a:xfrm>
          <a:custGeom>
            <a:avLst/>
            <a:gdLst/>
            <a:ahLst/>
            <a:rect l="l" t="t" r="r" b="b"/>
            <a:pathLst>
              <a:path w="552" h="392">
                <a:moveTo>
                  <a:pt x="240" y="392"/>
                </a:moveTo>
                <a:cubicBezTo>
                  <a:pt x="120" y="304"/>
                  <a:pt x="0" y="216"/>
                  <a:pt x="0" y="152"/>
                </a:cubicBezTo>
                <a:cubicBezTo>
                  <a:pt x="0" y="88"/>
                  <a:pt x="152" y="16"/>
                  <a:pt x="240" y="8"/>
                </a:cubicBezTo>
                <a:cubicBezTo>
                  <a:pt x="328" y="0"/>
                  <a:pt x="504" y="40"/>
                  <a:pt x="528" y="104"/>
                </a:cubicBezTo>
                <a:cubicBezTo>
                  <a:pt x="552" y="168"/>
                  <a:pt x="468" y="280"/>
                  <a:pt x="384" y="3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906920" y="342900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 dow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38640" y="38466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wn, x:=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64160" y="3505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 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795120" y="53481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p, x &lt; 1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4800600"/>
            <a:ext cx="380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Works on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Extension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x + y ([Bérard,Dufourd 2000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x – y, Silence action ([Bérard,Diekert,Gastin,Petit 1998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New operations on clocks ([Bouyer,Dufourd,Fleury,Petit 2000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Implementa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Forward/backward reachability analysi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[Alur &amp; Co 1992], [Daws,Yovine 1996], [Larsen,Pettersson,Yi 1997], [Daws,Tripakis 1998], [Tripakis,Yovine 2001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1940040"/>
            <a:ext cx="87631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ACD+92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Alur, Courcoubetis, Dill, Halbwachs,Wong-Toi. Minimization of Timed Transition  Systems. CONCUR'92 (LNCS 630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AD94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Alur, Dill. A Theory of Timed Automata. TCS 126(2), 1994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00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érard, Dufourd. Timed Automata and Additive Clock Constraints. IPL 75(1.2), 2000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FP00a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, Dufourd, Fleury, Petit. Are Timed Automata Updatable? CAV'00 (LNCS 1855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FP00b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, Dufourd, Fleury, Petit. Expressiveness of Updatable Timed Automata. MFCS'00 (LNCS 1893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GP98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érard, Diekert, Gastin, Petit. Characterization of the Expressive Power of Silent Transitions in Timed Automata. Fundamenta Informaticae 36(2.3), 1998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ouyer03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. Untameable Timed Automata! To appear in STACS'03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DT98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Daws, Tripakis. Model-Checking of Real-Time Reachability Properties using Abstractions. TACAS'98 (LNCS 1384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DY96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Daws, Yovine. Reducing the Number of Clock Variables of Timed Automata. RTSS'96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LPY97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Larsen, Pettersson, Yi. UPPAAL in a Nutshell. Software Tools for Technology Transfer 1(1.2), 1997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71800" y="2819520"/>
            <a:ext cx="3962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Thank you!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And Questions?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emantic Model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iscrete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integer (RT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nse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positive real (Timed Automat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nse tim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atural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r physical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of a specific time unit or time granularity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finite state spac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But there exist methods reduce the infinite concrete state space to finite abstract state sp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A timed automa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lur, Dill. A Theory of Timed Automata. TCS 126(2), 199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Is a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non-deterministic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finite-state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automata extended with a finite number of real-valued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clocks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lternates between two modes of execution, letting time pass continuously, then taking a step changing its discrete sta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1280" y="25146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5146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5146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514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,  x ≤ 5,  x := 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ttle more about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4267080"/>
            <a:ext cx="766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A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Arial"/>
              </a:rPr>
              <a:t>clock constraint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 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X ≤ c | c ≤ X | ¬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 |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1 </a:t>
            </a:r>
            <a:r>
              <a:rPr b="0" i="1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&amp;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666880"/>
            <a:ext cx="1295280" cy="6098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2666880"/>
            <a:ext cx="1295640" cy="6098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3" idx="6"/>
            <a:endCxn id="114" idx="2"/>
          </p:cNvCxnSpPr>
          <p:nvPr/>
        </p:nvCxnSpPr>
        <p:spPr>
          <a:xfrm>
            <a:off x="2971440" y="2971440"/>
            <a:ext cx="2439000" cy="1080"/>
          </a:xfrm>
          <a:prstGeom prst="straightConnector1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815480" y="18288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put symbo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4160" y="1828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ock constrai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2360" y="3465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ock rese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209680"/>
            <a:ext cx="533160" cy="30492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85840" y="2133720"/>
            <a:ext cx="228600" cy="3808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800240" y="2895480"/>
            <a:ext cx="152280" cy="60984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a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system can be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a collection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of timed automa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ponents proceed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parall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ime and messages are assumed to pass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ynchronously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ll compon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e informal specification of system can be stated as follow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trai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nds a signal to the controlle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t least 2 minutes befor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it enters the crossing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its the crossing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more than 5 minute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fter sending the approaching signal and sends another signal to the controller upon existing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controller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commands the gate t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we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actly 1 minute after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receiving the approaching signal from the train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ise aga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more than 1 minut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fter receiving the existing signal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ga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ake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ess than 1 minu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me down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etween 1 and 2 minute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me up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772760" y="40989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937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4987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4894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4987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5800" y="20415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4080" y="29559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1080" y="21178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160" y="21178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9559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4760" y="2575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6880" y="40989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32608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65104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90560" y="287964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447920" y="287928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4040" y="341316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59600" y="341316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9600" y="23464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4040" y="23464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49080" y="2041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266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8000" y="243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48720" y="32608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48000" y="24224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46800" y="29559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0920" y="30481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3120" y="27432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48000" y="36417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92840" y="249876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92880" y="27273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892480" y="364176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659560" y="27270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204156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000" y="4876920"/>
            <a:ext cx="790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8160" y="54705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1800" y="425124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91240" y="518148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562284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56228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45561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45561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480" y="4876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0400" y="46324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0400" y="58514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70844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493704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038120" y="585144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809880" y="49366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251240"/>
            <a:ext cx="3657600" cy="198144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04156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10040" y="3794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920" y="198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91880" y="36576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772760" y="3500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387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90008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89080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0008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4080" y="23572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1080" y="1519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2160" y="15192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10040" y="3211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2357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4760" y="1976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6880" y="3500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26622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05272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590560" y="2281320"/>
            <a:ext cx="685800" cy="7617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447920" y="2281320"/>
            <a:ext cx="761760" cy="7617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4040" y="281448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59600" y="281448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59600" y="174780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4040" y="174780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9080" y="1442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38880" y="2084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4320" y="2008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48720" y="26622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48000" y="18241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3120" y="2281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48000" y="3043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92840" y="19000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92880" y="21286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92480" y="30430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659560" y="21283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4428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80920" y="4294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8160" y="4871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1800" y="36529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502452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02452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395748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95748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75480" y="42940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0400" y="40338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0400" y="525312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411012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3387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038120" y="525312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809880" y="43383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365292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4428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033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19764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18241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5800" y="1442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1747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45226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54160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58320" y="25257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46800" y="2313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3600" y="13827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15560" y="3059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480" y="46134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ng Chen</cp:lastModifiedBy>
  <dcterms:modified xsi:type="dcterms:W3CDTF">2006-07-31T18:44:2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